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8F880-22E2-42F2-AF09-DEF4BEB524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68B8E-8512-46EE-8D2C-DBA1F9E72D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CDB8F-461B-4D44-AEB0-20D0681DC3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D14B1-7EEA-451F-A150-4BA17775C6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E0217-8DD9-4586-9AEE-3BD9AA5D7CE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16CE0-AA9E-4700-A5A2-97953DB72F5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A665D-900A-47F1-BFA1-3F3E4C2AF90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5F3F6-C23A-409E-B127-6C33A7C3598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A8B1A-5982-41AC-8E23-3876F3B5C81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54834-E305-49F4-BAC1-00732670517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04989-347A-421A-9A3B-0FF57B07E1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987D4-CDF4-43F4-B6A5-3E30AB02AC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AAE4E-77B5-4E42-AD65-74918DE9C12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91E90-7C28-4997-8A1E-3585EBF7434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E0CF0-96ED-4BDB-8B62-009126396C5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8B8A4-AD74-45C9-8C2C-087D9905984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1DFBB-7CA5-489A-A6B0-D88E07DAACE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1F46-BD35-4666-87A0-2F7A06177BC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CEBD-76E5-4B7C-9D70-F1A7BFAC214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6DC7-BBD7-444F-A41E-EB785ADB6B3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E44A-F92E-43C2-935B-11218278D64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D28C-60A7-4288-A2E3-2840F3E6A1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3A165-DF87-4DAC-813A-BC0DBF57E50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0B9E-FBA1-495E-BF78-9C7472195A9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6465-1893-4F19-9A06-B9A7425E1E0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504E-72A0-4ACB-B804-C46641EAC31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880F-7DE3-4427-BD59-A95211CEF9A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B5FA-61D4-455D-9A8E-938A25A4DE9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C740-ACF8-4616-9ADF-02470CEFA45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8C99-5F6D-49F2-9F7A-DA93FB50717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56C2C-D647-43C9-A20B-BCFAC50E740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09FB2-9E1A-4E0B-AF1D-DB67F3F895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CA35A-1A89-4F26-AA8C-F709305CFA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E0D02-041E-4F56-9486-CFDEA92786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34258-9C27-4A4A-B392-F173D8D265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DA855-A57F-4A03-895B-65A85E2978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500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15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725400" indent="-152280">
              <a:spcBef>
                <a:spcPts val="1500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136520" indent="-409320">
              <a:spcBef>
                <a:spcPts val="15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136520" indent="-409320">
              <a:spcBef>
                <a:spcPts val="15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136520" indent="-409320">
              <a:spcBef>
                <a:spcPts val="15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53BFA-056B-4010-9C17-97458C6CD37C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90720" y="632448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, the Intel logo, Intel Education Initiative, and the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78560" y="284040"/>
            <a:ext cx="2179800" cy="1089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sldNum" idx="2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C3B51-9998-44A0-8CB2-F22AFD7134B3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640080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, the Intel logo, Intel Education Initiative, and the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3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9F53D-39B8-4FC2-B77B-1D2B26913610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066680" y="632448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, the Intel logo, Intel Education Initiative, and the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478560" y="309600"/>
            <a:ext cx="2179800" cy="1089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4935240"/>
            <a:ext cx="8766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74840" y="2155680"/>
            <a:ext cx="8254800" cy="25416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7200" y="640080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, the Intel logo, Intel Education Initiative, and the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designprojects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seeingreason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visualranking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4800600"/>
            <a:ext cx="87631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0" lang="en-US" sz="3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0" y="5460480"/>
            <a:ext cx="876312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c00"/>
                </a:solidFill>
                <a:latin typeface="Verdana"/>
              </a:rPr>
              <a:t>Thinking with Technology Cours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cae1"/>
                </a:solidFill>
                <a:latin typeface="Verdana"/>
              </a:rPr>
              <a:t>Module 3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3: Creating Curriculum-Framing Questions to Support Thinking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3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Developing Curriculum-Framing Questions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6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1: Defining Curriculum-Framing Questions</a:t>
            </a: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continued)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3.07–3.09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240" y="2133360"/>
            <a:ext cx="48783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Unit Question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re unit-specific, open-ended question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elp build understanding for the Essential Ques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hy leave one’s home to make a new life in a strange land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694400" y="1752480"/>
            <a:ext cx="4449600" cy="449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9AC75-163A-4B55-A0D1-1874C6BC52A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3: Creating Curriculum-Framing Questions to Support Thinking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3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Developing Curriculum-Framing Questions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6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1: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efining Curriculum-Framing Questions</a:t>
            </a: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continued) – Module 3.07–3.09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760" y="2209320"/>
            <a:ext cx="51069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ontent Questions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re supporting, fact-based questio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re categorized as closed questio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elp strengthen and develop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tudents’ understanding of larger questio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What route did the early explorer’s take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What were the explorers looking for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View additional examples of Curriculum-Framing Questions in Appendix B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5181480"/>
            <a:ext cx="1295280" cy="304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5e647"/>
                </a:solidFill>
                <a:latin typeface="Arial Black"/>
              </a:rPr>
              <a:t>Important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5e647"/>
              </a:solidFill>
              <a:latin typeface="Arial Black"/>
              <a:ea typeface="Arial Black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694400" y="1752480"/>
            <a:ext cx="4449600" cy="449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EA5E9-68FC-4423-AB7C-02F280727C5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3: Creating Curriculum-Framing Questions to Support Thinking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3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Developing Curriculum-Framing Questions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2: Practicing with Questions</a:t>
            </a: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3.10–3.14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4954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etermine Essential Question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dentify Essential, Unit, and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ntent Ques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“big idea” concep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se Essential Questions using “big ideas”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ork with a partner to brainstorm big idea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raft Essential Ques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975200" y="1971720"/>
            <a:ext cx="3787920" cy="404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03487-482F-490F-9971-8C1E8DC21C8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3: Creating Curriculum-Framing Questions to Support Thinking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3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Developing Curriculum-Framing Questions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3: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Writing Essential and Unit Questions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odule 3.15–3.16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375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vide into small group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reate questions that will motivate students and target higher-order think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member to write questions in student-appropriate languag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B534B-F7E7-4BFF-BD44-49532324505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3: Creating Curriculum-Framing Questions to Support Thinking</a:t>
            </a:r>
            <a:br>
              <a:rPr sz="1200"/>
            </a:br>
            <a:br>
              <a:rPr sz="12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4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upporting Higher-Order Thinking Skills with Curriculum–Framing Question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1: Looking Deeper into a Unit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3.17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ork with a partn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view the Growing a Business unit pla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iscuss the Curriculum-Framing Questio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2: Focusing on Curriculum-Framing Questions Used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in Unit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3.18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iew several of the unit plans and project ideas at: </a:t>
            </a:r>
            <a:r>
              <a:rPr b="0" lang="en-US" sz="20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intel.com/education/designprojects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cus on how the Curriculum-Framing Questions are infused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rite any ideas for Curriculum-Framing Questions you may use in your classroo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2996B-A2F0-438D-B9BA-B1FD460C07D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3: Creating Curriculum-Framing Questions to Support Thinking</a:t>
            </a:r>
            <a:br>
              <a:rPr sz="1200"/>
            </a:br>
            <a:br>
              <a:rPr sz="12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5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  <a:ea typeface="Times New Roman"/>
              </a:rPr>
              <a:t>Writing Your Own Curriculum-Framing Question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518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1: Creating a First Draft of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Question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- Module 3.19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10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riting tips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nk about why your students are studying this topic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is the long-term understanding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cus on brainstorm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ay away from definitional ques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itially write the questions in adult language and then rewrite them in “student” languag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5262480" y="1371600"/>
            <a:ext cx="3881520" cy="3962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DF047-BB5E-423D-AD94-34D62203386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3: Creating Curriculum-Framing Questions to Support Thinking</a:t>
            </a:r>
            <a:br>
              <a:rPr sz="1200"/>
            </a:br>
            <a:br>
              <a:rPr sz="12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5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  <a:ea typeface="Times New Roman"/>
              </a:rPr>
              <a:t>Writing Your Own Curriculum-Framing Questions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600"/>
            </a:b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25240" y="1600200"/>
            <a:ext cx="8389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1: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reating a First Draft of Questions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continued) –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odule 3.20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10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reate a first draft of your Curriculum-Framing Ques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art big (Essential) and work to small (Content), O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art small (Content) and work to big (Essential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2: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arget Thinking Skills When Revising Questions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 –</a:t>
            </a:r>
            <a:br>
              <a:rPr sz="1500"/>
            </a:br>
            <a:r>
              <a:rPr b="1" lang="en-US" sz="15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odule 3.21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nsider thinking skills when revising ques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rite a second draft of your Curriculum-Framing ques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448C4-EA9C-49D1-ADBC-1D66596BDEF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6882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3: Creating Curriculum-Framing Questions to Support Thinking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6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haring Your Curriculum-Framing Question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–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odule 3.22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760" y="1828440"/>
            <a:ext cx="82375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n small group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hare your Curriculum-Framing Ques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quest ideas for improve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ote feedback and revision idea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89438-9DC4-4B5C-A03D-C4C5CF76555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3: Creating Curriculum-Framing Questions to Support Thinking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7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upporting Thinking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1: Updating Your Map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– Module 3.23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ith your partner, return to your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Seeing Reason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map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intel.com/education/seeingreason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nsider your work with Curriculum-Framing Ques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se your map from the perspective of a stud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 a different color for new factor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relationships between the facto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ave your map in your portfoli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2: Reflecting on Curriculum-Framing Questions to 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upport Thinking Skills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3.23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scuss thoughts about using Curriculum-Framing Questions in your classroom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06F80-1B9B-49D8-B655-EB60C5F2315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Module 3: Creating Curriculum-Framing Questions to Support Thinking</a:t>
            </a:r>
            <a:br>
              <a:rPr sz="1400"/>
            </a:br>
            <a:br>
              <a:rPr sz="1400"/>
            </a:b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Module 3 Summary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3.25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455760" y="1371600"/>
          <a:ext cx="8237520" cy="4568760"/>
        </p:xfrm>
        <a:graphic>
          <a:graphicData uri="http://schemas.openxmlformats.org/drawingml/2006/table">
            <a:tbl>
              <a:tblPr/>
              <a:tblGrid>
                <a:gridCol w="82375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Module 3 Key Poi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</a:tr>
              <a:tr h="4197240"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marL="173160" indent="-17172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ffff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osed questions ask students to understand facts and procedure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173160" indent="-17172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ffff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urriculum-Framing Questions consist of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2" marL="396720" indent="-14904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fff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ssential Questions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– big overarching ide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2" marL="396720" indent="-14904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fff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it Question(s)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– open-ended questions that support the exploration of one part of an Essential Ques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2" marL="396720" indent="-14904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fff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tent Questions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– supporting, fact-focused questions that are required to understand and answer Essential and Unit Ques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173160" indent="-17172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ffff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urriculum-Framing Questions are used throughout a unit to focus learning on important concepts and to promote higher-order thinking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9F219-2251-41FB-B9ED-3794C0CB2A5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Where We Wer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odule 1 </a:t>
            </a:r>
            <a:br>
              <a:rPr sz="28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argeting Thinking in the Classroom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argeting higher-order think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reating your own taxonom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Using the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Seeing Reaso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Too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odule 2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esigning Standards-Based Project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iscuss steps for project plann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dentify standards that target higher-order thinking skill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iscuss ways to use a project-based approach to learn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dentify influences that affect thinking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Questions?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577B7-516A-49A7-8226-A283E79F52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Next Session</a:t>
            </a:r>
            <a:br>
              <a:rPr sz="2600"/>
            </a:b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ule 4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lanning Student-Centered Assessmen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scuss assessment method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Showing Evidence Tool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o evaluate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ssessment idea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raft an Assessment Pla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C048D-078D-4310-A7E0-8EEE7044F98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217600" y="1908000"/>
            <a:ext cx="4953240" cy="247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AB306-9F1B-4C21-8C79-DDB9CD40F7B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Where We Ar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odule 3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reating Curriculum-Framing Questions to Support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inking Skill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Understand different types of questions used in the classroo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reate and revise Curriculum-Framing Questio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dentify influences affecting thinking from the perspective of a stude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1DE96-5940-456E-89C2-63D7779023F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Where We Are Going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457200" y="923760"/>
          <a:ext cx="8237520" cy="5019840"/>
        </p:xfrm>
        <a:graphic>
          <a:graphicData uri="http://schemas.openxmlformats.org/drawingml/2006/table">
            <a:tbl>
              <a:tblPr/>
              <a:tblGrid>
                <a:gridCol w="1982880"/>
                <a:gridCol w="6254640"/>
              </a:tblGrid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ule 4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ing Student-Centered Assessm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ule 5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sing the Visual Ranking Tool to Target Thinking Skil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ule 6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sidering the Visual Ranking Tool for Your Un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ule 7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sing the Seeing Reason Tool to Target Thinking Skil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ule 8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sidering the Seeing Reason Tool for Your Un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ule 9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sing the Showing Evidence Tool to Target Thinking Skil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ule 10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sidering the Showing Evidence Tool for Your Un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4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ule 11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pleting Your Un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F1C61-6844-4FD0-AC22-553A6046DF1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ule 3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Creating Curriculum-Framing Questions to Support Thinking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114800" y="1676160"/>
            <a:ext cx="45784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Objective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13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Rank questions according to their potential for generating deeper thinking in the classroom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1713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Understand the different types of questions used in the classroom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1713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Understand the use of Curriculum-Framing Questions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1713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ractice revising and creating Curriculum-Framing Questions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1713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reate a set of Curriculum-Framing Questions for your own classroom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1713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dentify positive and negative influences that can affect thinking—from the perspective of a student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1713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80880" y="1486080"/>
            <a:ext cx="3600720" cy="447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F7FC1-D8D5-456F-9E7E-1E9BD62CFBA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3: Creating Curriculum-Framing Questions to Support Thinking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1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Ranking Question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49280" y="1676520"/>
            <a:ext cx="8237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1: Ranking Questions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3.01–3.02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ith a partner, use the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Visual Ranking Tool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to rank questions according to their potential for generating deeper thinking in the classroo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pen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Visual Ranking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0" lang="en-US" sz="18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intel.com/education/visualranking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ork with a partn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og in with your team ID and passwor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Ranking Questio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ank Question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Review the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Visual Ranking w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orkspac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Rank question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dd comment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ompare your list with other team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6F195-CA5C-4D8F-B9C7-910F8A9F23C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3: Creating Curriculum-Framing Questions to Support Thinking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1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Ranking Questions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600"/>
            </a:b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3752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2: Discuss Your Ranking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3.02–3.03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scuss significant variations in ranking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scuss your ranking experienc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11A9D-8D3F-4EF4-8B5C-41659E6044D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3: Creating Curriculum-Framing Questions to Support Thinking</a:t>
            </a:r>
            <a:br>
              <a:rPr sz="1200"/>
            </a:br>
            <a:br>
              <a:rPr sz="12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2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Asking Questions in the Classroom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375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ep 1: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Understanding Open and Closed Questions</a:t>
            </a: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–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Module 3.04–3.05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losed question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est factual knowledg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ontain limited range of correct response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Open Question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Build on factual knowledg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romote higher-order thinking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Quick reflectio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With a partner, discuss open and closed questions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ep 2: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Reflecting on Questions Used in Your Classroom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–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Module 3.06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Reflect on the questions used in a typical day in your classroo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DD929-DD3D-4FE7-8EE3-B84E3E0E0E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3: Creating Curriculum-Framing Questions to Support Thinking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3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Developing Curriculum-Framing Question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5760" y="1523880"/>
            <a:ext cx="5868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1: Defining Curriculum-Framing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Questions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3.07–3.09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Essential Question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re overarching, foundationa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“big idea” ques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an help focus several uni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an be used over the course of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 yea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hat does it take to change the world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694400" y="1752480"/>
            <a:ext cx="4449600" cy="449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589A2-AAC1-472B-8827-A2B287FA959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4T01:49:56Z</dcterms:created>
  <dc:creator>Judi Yost</dc:creator>
  <dc:description/>
  <dc:language>en-US</dc:language>
  <cp:lastModifiedBy>jeyostx</cp:lastModifiedBy>
  <dcterms:modified xsi:type="dcterms:W3CDTF">2008-04-01T19:38:04Z</dcterms:modified>
  <cp:revision>880</cp:revision>
  <dc:subject/>
  <dc:title>Slide 1</dc:title>
</cp:coreProperties>
</file>